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014-FA34-4B05-9921-3979D8AE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8DB-357E-4570-B8A0-A50DDC7B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D04-B031-43A1-9FEC-7FF38709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F28-8B72-4E21-AA3F-ECB8D15B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66C4-06DF-4CC1-8575-1B125FB2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E067-BA40-40B4-81CD-10E33D87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AA00-D2A6-4120-BDC2-6ABCAE21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F9BE-72FC-48E6-A193-0B00F039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4EFA-753C-4E7C-8DE6-76A0042D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5257-BFB1-49D3-A0F2-C49FE51C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B976-E0FD-4FE9-BA9C-25E17AE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3A0-A43A-4614-BDFC-81932A5E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4910-D445-4A59-ABE9-045BE03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1B4C-EB17-4EC1-A2B6-67A42A3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B482-DA45-4E8E-9AB5-0C6E62C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C8EB-0165-4C6D-916C-56D8D14F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0040-BD47-4CBF-9774-391312AF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4A1-827E-4447-847D-FFADF122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B72-42DF-4913-9DFE-8F61A621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029-732A-458A-AA9D-DF8ED4D0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B1E-A736-426C-8364-1DCFD590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92B-0700-4E35-862F-7B6F1874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7AF-3691-4152-A55A-755C1CC5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2C4-CD4C-4F6B-AE04-11E11923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B875-093A-4022-932E-FA34FA048CFE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2BFD-4F63-4619-8694-8DC95F5FF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Școala cu cls I-VIII Pavel Dan Tritenii de 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voluția american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re proi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mestec de englezi, scotieni, irlandezi, francezi, olandezi, germani si suedezi…Din acest amestec pestrit s-a nascut aceasta rasa pe care o numim americani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REVOLUȚIA AMERICANĂ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comic"/>
              </a:rPr>
              <a:t>“Partida de ceai de la </a:t>
            </a: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Boston</a:t>
            </a:r>
            <a:r>
              <a:rPr b="1" lang="ro-RO" sz="2800" spc="-1" strike="noStrike">
                <a:solidFill>
                  <a:srgbClr val="000000"/>
                </a:solidFill>
                <a:latin typeface="comic"/>
              </a:rPr>
              <a:t>”.</a:t>
            </a: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"/>
              </a:rPr>
              <a:t>         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Un grup de americani, deghizaţi în indieni, au urcat la bordul navelor engleze şi au aruncat toată încărcătura de ceai în m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gres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ul de la Philadelph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Lupta de l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arato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2:41:04Z</dcterms:created>
  <dc:creator>user</dc:creator>
  <dc:description/>
  <dc:language>en-US</dc:language>
  <cp:lastModifiedBy>user</cp:lastModifiedBy>
  <dcterms:modified xsi:type="dcterms:W3CDTF">2010-05-05T13:30:19Z</dcterms:modified>
  <cp:revision>10</cp:revision>
  <dc:subject/>
  <dc:title>Revoluțiile epocii moderne</dc:title>
</cp:coreProperties>
</file>